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1C4-DF13-4731-A76A-CB1DAD4E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81B-70F9-4363-AFBB-27356882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EF2-7E2F-443B-9E40-DC2FC9C4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B72-A1D2-465C-9A8A-F5FC350D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300-370C-4C94-A12E-B1E143D1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45C-D2D0-4455-A05E-3639AD85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194-ACE9-41E1-AC4C-FD8E6AD6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31B-6270-4BBC-A545-70EB308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4B3-E73E-4973-AC6F-277E40F4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85B-787B-4A87-B361-C6E0520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5C8-6F27-4125-A2F5-16F7C81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DD5-F82D-4C00-80BD-825EFE5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960A-3D2C-414C-B2CB-EEAEEC09FAF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1040" y="714240"/>
          <a:ext cx="6215040" cy="417528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작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소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91104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작가님 소개를 자유롭게 작성해주세요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5"/>
          <p:cNvSpPr/>
          <p:nvPr/>
        </p:nvSpPr>
        <p:spPr>
          <a:xfrm>
            <a:off x="2214720" y="214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&lt;</a:t>
            </a:r>
            <a:r>
              <a:rPr b="1" lang="ko-KR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모작품 기획안</a:t>
            </a: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11040" y="5000760"/>
          <a:ext cx="6215040" cy="383220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작품의 장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컨셉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)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제작의도 및 타겟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877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제안 작품의 장르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컨셉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와 제작하고자 하는 의도 그리고 어느 독자층을 겨냥 한 작품인지 자유롭게 작성해주세요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57120" y="428760"/>
          <a:ext cx="6215040" cy="808344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작품의  스토리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시즌별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/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회차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3900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작품의 스토리는 크게는 시즌별로 큰 스토리를 요약해 작성해주시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그 큰 스토리속에 들어갈 회차별 스토리를 글 콘티 수준 혹은 소설 형태로 작성해주시면 됩니다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ex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시즌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1 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큰 줄거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화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스토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화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스토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시즌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2 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큰 줄거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화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스토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화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스토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57120" y="428760"/>
          <a:ext cx="6215040" cy="8200800"/>
        </p:xfrm>
        <a:graphic>
          <a:graphicData uri="http://schemas.openxmlformats.org/drawingml/2006/table">
            <a:tbl>
              <a:tblPr/>
              <a:tblGrid>
                <a:gridCol w="2071800"/>
                <a:gridCol w="1357200"/>
                <a:gridCol w="2786040"/>
              </a:tblGrid>
              <a:tr h="24444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캐릭터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그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/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이름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/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성격 및 구성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그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성격 및 구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57120" y="428760"/>
          <a:ext cx="6215040" cy="808344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작품의 설정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주요 배경 및 시대관 등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3900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작품에 핵심이 될 배경이나 시대배경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...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그에 따른 의상의 형태등 작품 방향을 파악하는데 꼭 필요한 주요 설정에 대해 작성해주세요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!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57120" y="428760"/>
          <a:ext cx="6215040" cy="808344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원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-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샘플 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3900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작품의 샘플 컷 및 주요장면의 이미지를 넣어주세요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!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추가로 첨부해야하는 샘플 원고와는 별도입니다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01:24:01Z</dcterms:created>
  <dc:creator>qqqq</dc:creator>
  <dc:description/>
  <dc:language>en-US</dc:language>
  <cp:lastModifiedBy>USER</cp:lastModifiedBy>
  <dcterms:modified xsi:type="dcterms:W3CDTF">2021-11-15T03:46:46Z</dcterms:modified>
  <cp:revision>9</cp:revision>
  <dc:subject/>
  <dc:title>슬라이드 1</dc:title>
</cp:coreProperties>
</file>